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0FC2-2CC8-4223-8CA3-DD75991BA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e2d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776760"/>
            <a:ext cx="8534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EFC3-B27C-4EC3-AF78-59BC2831D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e2d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840" y="9907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7767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840" y="37767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FB01-6D74-4941-A593-6AECE1BC7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e2d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0680" y="9907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9907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7767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0680" y="37767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37767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43C0-B53C-4B6C-BF47-619FE5D6A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AD7F7-A8EB-40F5-9A95-582649580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e2d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7E5B4-25F5-471C-B566-D59A48E9B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e2d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1871B-5D62-4AA9-A679-EDA224015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e2d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4164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7840" y="990720"/>
            <a:ext cx="4164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77436-4F48-47F8-A3A4-C1E771C47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e2d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E6C45-4CC1-4B53-8CDE-A597E6356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C3321-0084-4303-BD64-749943921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e2d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990720"/>
            <a:ext cx="4164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37767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1C12D-FA15-44FE-862B-EB6446D0B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e2d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E937-1F02-4772-BEBB-A496EEF6E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e2d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4164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9907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7840" y="37767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C7760-27D1-43C2-84FA-BBBD4353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e2d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9907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776760"/>
            <a:ext cx="8534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32FBE-229B-478D-924E-10357D569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e2d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3776760"/>
            <a:ext cx="8534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2ECA1-A1C1-425F-8AC3-8D0965998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e2d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7840" y="9907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7767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7840" y="37767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B99AD-94C1-4E75-84A0-5C4E2B228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e2d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0680" y="9907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080" y="9907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37767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0680" y="37767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080" y="37767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02163-5C61-4D03-9290-1B5E94A0A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e2d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8772-01DB-436D-8EEE-029CC44ED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e2d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4164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840" y="990720"/>
            <a:ext cx="4164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CA13-A6DA-49AE-9D1B-10270DDE0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e2d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2D11-7106-487E-88D2-929F3566C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99BB-E43C-4E1D-81B7-520192113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e2d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990720"/>
            <a:ext cx="4164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7767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1020-AA3B-43BD-AB62-DBF5897E0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e2d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4164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9907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840" y="37767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E46F-6871-4137-A0AA-9EBA5CC9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e2d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9907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776760"/>
            <a:ext cx="8534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A4BE-26E1-43C6-9A3F-A833BC43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e2d9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ffe2d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40080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400" y="6400800"/>
            <a:ext cx="2819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EE2BD-D1A3-431C-B7A7-AC9D06F12F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9520"/>
            <a:ext cx="830592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2d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e2d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80520" y="6477120"/>
            <a:ext cx="26672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200400" y="6477120"/>
            <a:ext cx="2743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095880" y="6477120"/>
            <a:ext cx="2819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1ABCE-0452-46E5-B5BC-7F1E22BC99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hyperlink" Target="http://images.google.com/imgres?imgurl=http://www.lsuagcenter.com/NR/rdonlyres/355735B8-2386-444C-A03D-8FD846F35A43/15967/4h_mark2_w200.jpg&amp;imgrefurl=http://www.lsuagcenter.com/en/our_offices/parishes/Ascension/Features/4-H/Ascension%2BParish%2B4H%2BClubs.htm&amp;h=200&amp;w=200&amp;sz=9&amp;hl=en&amp;start=9&amp;sig2=PJ1vsHpQIW6YFdTu1vt2Ww&amp;tbnid=ZHB9sEpdKBR6iM:&amp;tbnh=104&amp;tbnw=104&amp;ei=A-SER4foFY32eeKb6VI&amp;prev=/images%3Fq%3D4-H%2Blogo%26gbv%3D2%26svnum%3D10%26hl%3Den%26sa%3DG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images.google.com/imgres?imgurl=http://www.fis.ncsu.edu/Advancement_Services/directors_pages/prospect_management/bigBrick.gif&amp;imgrefurl=http://www.fis.ncsu.edu/Advancement_Services/directors_pages/prospect_management/prospect_management2.htm&amp;h=173&amp;w=509&amp;sz=4&amp;hl=en&amp;start=35&amp;sig2=VtxFKVFEIPTsl7XFhE8AbQ&amp;tbnid=SvwxHZmy5L8H7M:&amp;tbnh=45&amp;tbnw=131&amp;ei=WOSER-KsNJGmevGT0Fg&amp;prev=/images%3Fq%3DNC%2BState%2Blogo%26start%3D20%26gbv%3D2%26ndsp%3D20%26svnum%3D10%26hl%3Den%26sa%3DN" TargetMode="Externa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images.tribe.net/tribe/upload/photo/827/a94/827a9428-3bc9-41df-8c3b-b764da3c6f5c.large-profile.jpg&amp;imgrefurl=http://people.tribe.net/kachinakatrina&amp;h=429&amp;w=311&amp;sz=15&amp;hl=en&amp;start=12&amp;sig2=W57pxfqpbeysx1oZeF6RqQ&amp;tbnid=8FODiOR03BVKuM:&amp;tbnh=126&amp;tbnw=91&amp;ei=LuuER6StGI-uetmYzEg&amp;prev=/images%3Fq%3Dworking%2Btogether%26gbv%3D2%26svnum%3D10%26hl%3Den%26sa%3DG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freedigitalphotos.net/image/s_spider-web.jpg&amp;imgrefurl=http://www.freedigitalphotos.net/details.php%3Fgid%3D53%26sgid%3D%26pid%3D224&amp;h=375&amp;w=500&amp;sz=152&amp;hl=en&amp;start=24&amp;sig2=Iaqskb3sQ2uJshSmfReNUw&amp;tbnid=obQRN6XM6FT8GM:&amp;tbnh=98&amp;tbnw=130&amp;ei=4OqER4ndBZSUeJyslFY&amp;prev=/images%3Fq%3Dspider%2Bweb%26start%3D20%26gbv%3D2%26ndsp%3D20%26svnum%3D10%26hl%3Den%26sa%3DN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content.answers.com/main/content/wp/en/thumb/1/1e/180px-NCSU_Belltower.png&amp;imgrefurl=http://www.answers.com/topic/north-carolina-state-university-main-campus&amp;h=385&amp;w=180&amp;sz=114&amp;hl=en&amp;start=20&amp;sig2=CooTE5BKIbfjsWluOG9XMA&amp;tbnid=RyeCmI8KbxokrM:&amp;tbnh=123&amp;tbnw=58&amp;ei=W-WER7jrI5GmevyT0Fg&amp;prev=/images%3Fq%3DNC%2BState%2Btower%26gbv%3D2%26svnum%3D10%26hl%3Den%26sa%3D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emporia.edu/lifelong/eled/images/math.png&amp;imgrefurl=http://www.emporia.edu/lifelong/eled/kckcc/index.htm&amp;h=282&amp;w=195&amp;sz=225&amp;hl=en&amp;start=17&amp;sig2=io9R2sLxDEwPlrpoh7T6wQ&amp;tbnid=7shIwwdLfIncyM:&amp;tbnh=114&amp;tbnw=79&amp;ei=eOaER6ajMZGmevGT0Fg&amp;prev=/images%3Fq%3Dyouth%2Bcompleting%2Btest%26gbv%3D2%26svnum%3D10%26hl%3Den%26sa%3D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047760"/>
            <a:ext cx="830592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2d9"/>
                </a:solidFill>
                <a:latin typeface="Arial"/>
              </a:rPr>
              <a:t>Listening to Youth</a:t>
            </a:r>
            <a:br>
              <a:rPr sz="4400"/>
            </a:br>
            <a:r>
              <a:rPr b="1" lang="en-US" sz="4400" spc="-1" strike="noStrike">
                <a:solidFill>
                  <a:srgbClr val="ffe2d9"/>
                </a:solidFill>
                <a:latin typeface="Arial"/>
              </a:rPr>
              <a:t>Leading Communities</a:t>
            </a:r>
            <a:endParaRPr b="1" lang="en-US" sz="4400" spc="-1" strike="noStrike">
              <a:solidFill>
                <a:srgbClr val="ffe2d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800" y="472428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orte"/>
              </a:rPr>
              <a:t>North Carolina 4-H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orte"/>
              </a:rPr>
              <a:t>Study of Positive Youth Developme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477120" y="304920"/>
            <a:ext cx="1523880" cy="4665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153280" y="3049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724280" y="304920"/>
            <a:ext cx="1524240" cy="5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2d9"/>
                </a:solidFill>
                <a:latin typeface="Arial"/>
              </a:rPr>
              <a:t>4-H Study of Positive Youth Development</a:t>
            </a:r>
            <a:endParaRPr b="1" lang="en-US" sz="3200" spc="-1" strike="noStrike">
              <a:solidFill>
                <a:srgbClr val="ffe2d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C 4-H and community partners will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e results to identify strengths and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isks, program effectiveness and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ed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429000" y="3886200"/>
            <a:ext cx="2819520" cy="2427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990720" y="4317840"/>
            <a:ext cx="2581200" cy="17211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The image “http://www.eastern4hcenter.org/images/homepg/ropes.jpg” cannot be displayed, because it contains errors."/>
          <p:cNvPicPr/>
          <p:nvPr/>
        </p:nvPicPr>
        <p:blipFill>
          <a:blip r:embed="rId4"/>
          <a:stretch/>
        </p:blipFill>
        <p:spPr>
          <a:xfrm>
            <a:off x="6172200" y="4343400"/>
            <a:ext cx="243828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2d9"/>
                </a:solidFill>
                <a:latin typeface="Arial"/>
              </a:rPr>
              <a:t>4-H Study of Positive Youth Development</a:t>
            </a:r>
            <a:endParaRPr b="1" lang="en-US" sz="3200" spc="-1" strike="noStrike">
              <a:solidFill>
                <a:srgbClr val="ffe2d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Forte"/>
              </a:rPr>
              <a:t>What we hear from youth </a:t>
            </a:r>
            <a:r>
              <a:rPr b="0" lang="en-US" sz="3600" spc="-1" strike="noStrike">
                <a:solidFill>
                  <a:srgbClr val="ffffff"/>
                </a:solidFill>
                <a:latin typeface="Forte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Forte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Forte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Forte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Forte"/>
              </a:rPr>
              <a:t>and parents and what we </a:t>
            </a:r>
            <a:r>
              <a:rPr b="0" lang="en-US" sz="3600" spc="-1" strike="noStrike">
                <a:solidFill>
                  <a:srgbClr val="ffffff"/>
                </a:solidFill>
                <a:latin typeface="Forte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Forte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Forte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Forte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Forte"/>
              </a:rPr>
              <a:t>gain from working together.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3520" y="1219320"/>
            <a:ext cx="23112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2d9"/>
                </a:solidFill>
                <a:latin typeface="Arial"/>
              </a:rPr>
              <a:t>4-H Study of Positive Youth Development</a:t>
            </a:r>
            <a:endParaRPr b="1" lang="en-US" sz="3200" spc="-1" strike="noStrike">
              <a:solidFill>
                <a:srgbClr val="ffe2d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Forte"/>
              </a:rPr>
              <a:t>…</a:t>
            </a:r>
            <a:r>
              <a:rPr b="0" lang="en-US" sz="3600" spc="-1" strike="noStrike">
                <a:solidFill>
                  <a:srgbClr val="ffffff"/>
                </a:solidFill>
                <a:latin typeface="Forte"/>
              </a:rPr>
              <a:t>will weave a stronger web of </a:t>
            </a:r>
            <a:r>
              <a:rPr b="0" lang="en-US" sz="3600" spc="-1" strike="noStrike">
                <a:solidFill>
                  <a:srgbClr val="ffffff"/>
                </a:solidFill>
                <a:latin typeface="Forte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Forte"/>
              </a:rPr>
              <a:t>support and opportunity for our </a:t>
            </a:r>
            <a:r>
              <a:rPr b="0" lang="en-US" sz="3600" spc="-1" strike="noStrike">
                <a:solidFill>
                  <a:srgbClr val="ffffff"/>
                </a:solidFill>
                <a:latin typeface="Forte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Forte"/>
              </a:rPr>
              <a:t>clubs, our communities, our country, </a:t>
            </a:r>
            <a:r>
              <a:rPr b="0" lang="en-US" sz="3600" spc="-1" strike="noStrike">
                <a:solidFill>
                  <a:srgbClr val="ffffff"/>
                </a:solidFill>
                <a:latin typeface="Forte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Forte"/>
              </a:rPr>
              <a:t>and our world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34120" y="990720"/>
            <a:ext cx="2914560" cy="21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2d9"/>
                </a:solidFill>
                <a:latin typeface="Arial"/>
              </a:rPr>
              <a:t>4-H Study of Positive Youth Development</a:t>
            </a:r>
            <a:endParaRPr b="1" lang="en-US" sz="3200" spc="-1" strike="noStrike">
              <a:solidFill>
                <a:srgbClr val="ffe2d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uts and Bol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y: Understand and help you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o: Youth 13-17; Ideal: 9-10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G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ents of participating you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: Survey of Positive Youth De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ere: NC community sites with desk space or computer labs, including schools, afterschool, or commu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en: 45-90 min, by June 30, 20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2d9"/>
                </a:solidFill>
                <a:latin typeface="Arial"/>
              </a:rPr>
              <a:t>4-H Study of Positive Youth Development</a:t>
            </a:r>
            <a:endParaRPr b="1" lang="en-US" sz="3200" spc="-1" strike="noStrike">
              <a:solidFill>
                <a:srgbClr val="ffe2d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uts and Bol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w: Steps to implementing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munity partners/s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ta collectors trai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ent consent/youth ass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duct survey (paper, onlin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nd results to Tuf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ceive and publicize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2d9"/>
                </a:solidFill>
                <a:latin typeface="Arial"/>
              </a:rPr>
              <a:t>4-H Study of Positive Youth Development</a:t>
            </a:r>
            <a:endParaRPr b="1" lang="en-US" sz="3200" spc="-1" strike="noStrike">
              <a:solidFill>
                <a:srgbClr val="ffe2d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orte"/>
              </a:rPr>
              <a:t>What do we know about our youth today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orte"/>
              </a:rPr>
              <a:t>What impact do families, schools, and community clubs have on young peopl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orte"/>
              </a:rPr>
              <a:t>Where should communitie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orte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Forte"/>
              </a:rPr>
              <a:t>begin in reaching youth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477120" y="4267080"/>
            <a:ext cx="21333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2d9"/>
                </a:solidFill>
                <a:latin typeface="Arial"/>
              </a:rPr>
              <a:t>4-H Study of Positive Youth Development</a:t>
            </a:r>
            <a:endParaRPr b="1" lang="en-US" sz="3200" spc="-1" strike="noStrike">
              <a:solidFill>
                <a:srgbClr val="ffe2d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ring communities listen to you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stening carefully helps youth advocates lead commun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2d9"/>
                </a:solidFill>
                <a:latin typeface="Arial"/>
              </a:rPr>
              <a:t>4-H Study of Positive Youth Development</a:t>
            </a:r>
            <a:endParaRPr b="1" lang="en-US" sz="3200" spc="-1" strike="noStrike">
              <a:solidFill>
                <a:srgbClr val="ffe2d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o much of what we hear about youth is negati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o much of what we know about youth programs is speculati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 do the best we c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The image “http://www.criminology.fsu.edu/crimtheory/images/25222.JPG” cannot be displayed, because it contains errors."/>
          <p:cNvPicPr/>
          <p:nvPr/>
        </p:nvPicPr>
        <p:blipFill>
          <a:blip r:embed="rId2"/>
          <a:stretch/>
        </p:blipFill>
        <p:spPr>
          <a:xfrm>
            <a:off x="6172200" y="3657600"/>
            <a:ext cx="21463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2d9"/>
                </a:solidFill>
                <a:latin typeface="Arial"/>
              </a:rPr>
              <a:t>4-H Study of Positive Youth Development</a:t>
            </a:r>
            <a:endParaRPr b="1" lang="en-US" sz="3200" spc="-1" strike="noStrike">
              <a:solidFill>
                <a:srgbClr val="ffe2d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Now we can do be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2d9"/>
                </a:solidFill>
                <a:latin typeface="Arial"/>
              </a:rPr>
              <a:t>4-H Study of Positive Youth Development</a:t>
            </a:r>
            <a:endParaRPr b="1" lang="en-US" sz="3200" spc="-1" strike="noStrike">
              <a:solidFill>
                <a:srgbClr val="ffe2d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power to do better is within 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C State was created fo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aching, outreach, and resear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C 4-H could serve youth bet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ith stronger resear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772400" y="1523880"/>
            <a:ext cx="10778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2d9"/>
                </a:solidFill>
                <a:latin typeface="Arial"/>
              </a:rPr>
              <a:t>4-H Study of Positive Youth Development</a:t>
            </a:r>
            <a:endParaRPr b="1" lang="en-US" sz="3200" spc="-1" strike="noStrike">
              <a:solidFill>
                <a:srgbClr val="ffe2d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ere we begi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C 4-H joins with __ stat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 the most extensive researc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 positive youth developm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er conduc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010280" y="1143000"/>
            <a:ext cx="13208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2d9"/>
                </a:solidFill>
                <a:latin typeface="Arial"/>
              </a:rPr>
              <a:t>4-H Study of Positive Youth Development</a:t>
            </a:r>
            <a:endParaRPr b="1" lang="en-US" sz="3200" spc="-1" strike="noStrike">
              <a:solidFill>
                <a:srgbClr val="ffe2d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C 4-H youth professionals will listen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d lead research with youth and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ent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2d9"/>
                </a:solidFill>
                <a:latin typeface="Arial"/>
              </a:rPr>
              <a:t>4-H Study of Positive Youth Development</a:t>
            </a:r>
            <a:endParaRPr b="1" lang="en-US" sz="3200" spc="-1" strike="noStrike">
              <a:solidFill>
                <a:srgbClr val="ffe2d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C 4-H partners at Tufts University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ill prepare summary reports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outh development and program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2T16:50:17Z</dcterms:created>
  <dc:creator>bsillim</dc:creator>
  <dc:description/>
  <dc:language>en-US</dc:language>
  <cp:lastModifiedBy>bsillim</cp:lastModifiedBy>
  <dcterms:modified xsi:type="dcterms:W3CDTF">2008-01-09T16:03:30Z</dcterms:modified>
  <cp:revision>36</cp:revision>
  <dc:subject/>
  <dc:title>Slide 1</dc:title>
</cp:coreProperties>
</file>